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F7B-3EDF-4310-973A-99B273E9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4D2-9CD2-4A3A-B2A8-D06D4D5A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0B5-80B6-49B5-828B-41579FD4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78B-96FE-42A7-8712-BF11B915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FE2-D85C-4C33-BAEE-7509856C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4B1-DE53-4F6C-94A7-870B2AE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62E-4A99-4823-A3FE-F8BD8D82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6AA-D934-450E-B1BE-485320E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47F-60F2-4807-A036-E4A6C925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AA5-ACF3-422D-B35B-FA66FC1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35E-4D61-4D7C-A24C-94B6C1BA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109-6FBF-4B15-BD58-7E94D1B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68D-2734-4E52-BD11-3313B79F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onstitutioncenter.org/timeline/flash/assets/asset_upload_file562_12288.jpg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pbs.org/wnet/supremecourt/timeline/images/timeline_pic17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illofrightsinstitute.org/.../cartoon3.jpg%20.%205/24/1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uropeancourier.org/images/Mapp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arren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4-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Rebecca 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 v Vitale (19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blic school in Hyde Park, NY required all kids to recite daily in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61722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ool prayer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nstitutioncenter.org/timeline/flash/assets/asset_upload_file562_12288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19520"/>
            <a:ext cx="5105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ighty God, we acknowledge our dependence upon Thee, and we beg Thy blessings upon us, our parents, our teachers and our country. Am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 v Arizona (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 Ernesto Miranda arrested for suspected kidnapping and rape of an 18-year-old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64080" cy="2981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609588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nda 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bs.org/wnet/supremecourt/timeline/images/timeline_pic17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556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igned a confession after 2 hours of con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9112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 was informed of right to remain silent or right to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aur"/>
              </a:rPr>
              <a:t>Chief Justice Earl Warr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ef Justice for 16 years (1954-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ren  painting (online image) available http://www.google.com/imgres?imgurl=http://www.supremecourthistory.org/history/images/014_warren.jpg&amp;imgrefurl=http://www.supremecourthistory.org/history/supremecourthistory_history_chief_014warren.htm&amp;usg=__Es9sWPmj8ydKsZBAuFNYeep4ICc=&amp;h=400&amp;w=310&amp;sz=22&amp;hl=en&amp;start=1&amp;sig2=xlJeBFZ6d6NeOJb_tQivSg&amp;itbs=1&amp;tbnid=g6EoO03mVyCwXM:&amp;tbnh=124&amp;tbnw=96&amp;prev=/images%3Fq%3Dearl%2Bwarren%26hl%3Den%26gbv%3D2%26tbs%3Disch:1&amp;ei=tLr5S_r8M8T7lwf_ytDLC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4572000"/>
            <a:ext cx="6248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chief justice voted liberally 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ivil rights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505320"/>
            <a:ext cx="5790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ed efforts to make CA’s state assembly more representative of it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259092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ed for Japanese Internment as Attorney General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924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ly had negative civil rights re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4 Linda Brown walked 6 blocks to ride catch a bus to her segregated school 1 mil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665200">
            <a:off x="1828800" y="4723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971800"/>
            <a:ext cx="3429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l white school was 7 blocks from her house but she was not allowed to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85800" y="1295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turned Plessy v Fergusson and the idea of separate bu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1 Gideon stole $5 in change (from a jukebox) and some alcohol from a pool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n’t afford a lawyer &amp; Florida did not prov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d to 5 years in jail, but researched legal rights and petitioned on prison note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267080"/>
            <a:ext cx="79250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200400"/>
            <a:ext cx="79246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 (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867280"/>
            <a:ext cx="79250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cartoon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llofrightsinstitute.org/.../cartoon3.jpg . 5/24/10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(online image) available http://www.pbs.org/wnet/supremecourt/rights/images/gideon.jpg 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tition (online image) available http://www.ocpd.state.ct.us/images/Gideon%20Petition.gif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4334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828800"/>
            <a:ext cx="6629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057400" y="609480"/>
            <a:ext cx="4718160" cy="528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 distric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d votes eq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838080" y="2666880"/>
            <a:ext cx="7925040" cy="2186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01960" y="26668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371600" y="31240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97180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26668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886200" y="2666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4495680" y="37339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61722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41008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1905120" y="36576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5562720" y="27432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64008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7162920" y="28195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6"/>
          <a:stretch/>
        </p:blipFill>
        <p:spPr>
          <a:xfrm>
            <a:off x="7772400" y="2514600"/>
            <a:ext cx="474840" cy="762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588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17220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762120" y="2286000"/>
            <a:ext cx="7924680" cy="218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2564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2952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895480" y="3429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90920" y="23623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80988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095880" y="28954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5334120" y="34290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18288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48640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6324480" y="20574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0866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696080" y="2133720"/>
            <a:ext cx="474840" cy="76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many people moved to the c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cts kept the same percentage of votes.  This meant that the city (urban) votes counted ______ than the country (rural)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7341E-006 L -0.125 0.09989 E">
                                      <p:cBhvr>
                                        <p:cTn id="17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46821E-006 L -0.16667 0.07769 E">
                                      <p:cBhvr>
                                        <p:cTn id="17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7341E-006 L 0.09166 1.7341E-006 E">
                                      <p:cBhvr>
                                        <p:cTn id="17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6821E-006 L -0.14167 -0.06659 E">
                                      <p:cBhvr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6.53179E-006 L 0.10001 -0.07769 E">
                                      <p:cBhvr>
                                        <p:cTn id="18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1.09827E-006 L -0.1342 0.06659 E">
                                      <p:cBhvr>
                                        <p:cTn id="19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6 -0.0222 L 0.35833 0.02219 E">
                                      <p:cBhvr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0.0111 L -0.19254 0.13318 E">
                                      <p:cBhvr>
                                        <p:cTn id="19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4971E-006 C -0.02969 -0.05017 -0.05938 -0.10011 -0.08264 -0.10566 C -0.1059 -0.11121 -0.12709 -0.08208 -0.13976 -0.03375 C -0.15243 0.01457 -0.19236 0.11792 -0.15886 0.18405 C -0.12535 0.25018 0.02847 0.36162 0.06163 0.3637 C 0.09514 0.36578 0.04982 0.23307 0.04114 0.19677 C 0.03229 0.16046 0.01476 0.15445 0.00937 0.1459 E">
                                      <p:cBhvr>
                                        <p:cTn id="2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2.08092E-006 C 0.07847 -0.11885 0.15694 -0.23769 0.21597 -0.19653 C 0.27499 -0.15538 0.29236 0.17688 0.35399 0.2474 C 0.41545 0.31792 0.53003 0.25826 0.58576 0.22613 C 0.64131 0.19399 0.6894 0.08115 0.68732 0.05503 C 0.68524 0.0289 0.59218 0.06728 0.57308 0.06982 E">
                                      <p:cBhvr>
                                        <p:cTn id="20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2428E-007 C 0.00747 0.11283 0.01493 0.22589 0.05243 0.23052 C 0.08993 0.23514 0.19653 0.06127 0.22535 0.02751 E">
                                      <p:cBhvr>
                                        <p:cTn id="21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310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64008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pp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opeancourier.org/images/Mapp.jp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io cops got a tip that Dollree Mapp was hiding a criminal, so they went to her house and demanded ent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42900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’s lawyer told her to demand a warrant which the cops did not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43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came in any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produced a fake warrant which Mapp shoved down her shi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6576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find a criminal but found porn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07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294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4197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 arrested for possession of “obscene”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4:26:42Z</dcterms:created>
  <dc:creator>Rebecca Johnson</dc:creator>
  <dc:description/>
  <dc:language>en-US</dc:language>
  <cp:lastModifiedBy>Rebecca Johnson</cp:lastModifiedBy>
  <dcterms:modified xsi:type="dcterms:W3CDTF">2010-07-11T16:49:19Z</dcterms:modified>
  <cp:revision>11</cp:revision>
  <dc:subject/>
  <dc:title>The Warren Court</dc:title>
</cp:coreProperties>
</file>